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AB48-A0C4-46E3-A330-F3AEAA8C0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AC62-A4F0-4485-B822-41D33C130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D4DF-B1D0-4722-9F59-D77F8A36E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0F48-9B93-4C4F-AEDA-603430C11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F559-9A83-4A84-9083-A54315246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F58E-E2C6-4141-BEF7-12B41FDA6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BE22-D3AF-4BC1-8818-A4698DF23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60D0-4C59-4A56-96CD-1CAF2673D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6FB3-D11C-47A7-B9E0-66F9F1219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BE41-FE7D-4D47-9DE3-975227596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BDC4-29BD-4752-A528-66EAC4A39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E0C9-9935-4B0E-8A62-D485F3FDC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C44-9E12-4BA1-9712-E4C603AFDE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B04-AF1E-4119-B274-6283C0A92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53416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3000"/>
          </a:bodyPr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in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will a good answer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dentify the Big Idea as found in the Proportional Reasoning document that fits with your expec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e will be looking for volunteers to post their work and receive feedback from the group. (Keep in mind as you wor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BDA9-475D-4FAD-8F7B-8F8185E17F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4D7-CF53-4E80-94EE-09C1C4F00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 -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view 2-3 pieces of work as a group and provide feedback using these guid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s the learning goal cl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it relate back to the Curriculum Expectation? (too much, too lit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the Consolidation Question provide an opportunity for students to demonstrate that they have achieve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Volunteers? (Remember – Effective Feedback p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292-8C57-4B86-95EF-9B478687AC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EF84-F1EC-4BBC-AD5E-BE555655CB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C31-E306-48CD-96FE-0ADD41816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086-E439-4404-90D8-0C2C6F4369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D3EB-B52B-434E-91A0-65065118AE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3AD5-CC26-4EBE-90FB-3FB5FC18B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0F0B-60A8-4002-AC2C-6B08E00A4C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41BC-B6E4-4C8B-8844-593FD977B0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Please sit with your course partner from yesterday’s Venn Diagram activ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 and link to Big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nd receive effective professional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7670-EBD6-40E9-B6E5-561EF64BC0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A51-0943-4A7D-A33A-D40E72472F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line what you consider to be the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 in the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36E0-D7A1-4E47-ADA1-0C37FF92AE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1ED-8F73-4F01-BCF0-DB62E8C70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-read the article “The House” individually using the information on the orange slip as you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light what you consider to be the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 in the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D38-C2B6-4667-B2B9-BBA60E8306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FF7B-7ED7-475B-8D78-2B35BC1FE1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the TOP 3 key features of the house – based on your lens. Come to consensus at your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F241-2E19-4026-B387-A076E0491F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5704-E03D-4387-B234-021E441103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7084-B796-415F-B6E6-45AC7E8C44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CE1-8254-4B48-B0F4-2A17DD7673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2EC-2B1C-4716-AF4E-20162B0DE5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3826-5F3B-4067-AEA3-EDF89F112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32B0-0DE6-41AA-98C1-285E8FCD15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2F1-FBAC-444E-8C13-3B77BD0A27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9T02:58:07Z</dcterms:modified>
  <cp:revision>45</cp:revision>
  <dc:subject/>
  <dc:title>&lt;Title&gt;</dc:title>
</cp:coreProperties>
</file>